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9987-EB78-48DB-A600-3B5DF84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1442-426B-46B8-9CE9-86A1DA9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F6F8E-CE90-4EDC-B12D-7D44CA1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FC46C-26EA-4682-9B6B-FA7E40B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8BB6-0E9C-47A5-ACE2-0F32D0C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0BB5D-8181-4F80-8D7B-7B4F8D2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55697-B1C0-4AAF-8972-09C676C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99D90-47CC-4085-98B5-0D07212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ED2B-92F1-47D4-87CB-B09C241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BFA2A-3C7C-4837-A832-978406D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9E6F2-C63C-48C8-81C9-1CCFD9C6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C6CD1-D2BF-4875-91DC-426BCAA5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84840" y="64404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9F6F-2C4E-4F30-A6BD-5DBD3A1BC19F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71640" y="640080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第三章　动量守恒和能量守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042920" cy="6884640"/>
            <a:chOff x="0" y="0"/>
            <a:chExt cx="1042920" cy="688464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622800"/>
              <a:ext cx="611280" cy="62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2763720" y="632448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rId4" action="ppaction://hlinksldjump"/>
          </p:cNvPr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81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689-80A6-4F72-9F13-05910F53D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070080"/>
            <a:ext cx="7777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黑体"/>
                <a:ea typeface="黑体"/>
              </a:rPr>
              <a:t>动量守恒定律和能量守恒定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11200" y="1052640"/>
            <a:ext cx="6400800" cy="9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黑体"/>
                <a:ea typeface="黑体"/>
              </a:rPr>
              <a:t>第  三  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黑体"/>
              </a:rPr>
              <a:t>Click to edit the title text format</a:t>
            </a:r>
            <a:endParaRPr b="0" lang="en-US" sz="8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黑体"/>
              </a:rPr>
              <a:t>Click to edit the outline text format</a:t>
            </a:r>
            <a:endParaRPr b="0" lang="en-US" sz="6000" spc="-1" strike="noStrike">
              <a:solidFill>
                <a:srgbClr val="ff9900"/>
              </a:solidFill>
              <a:latin typeface="黑体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3-1%20&#36136;&#28857;&#21644;&#36136;&#28857;&#31995;&#30340;&#21160;&#37327;&#23450;&#29702;.ppt" TargetMode="External"/><Relationship Id="rId2" Type="http://schemas.openxmlformats.org/officeDocument/2006/relationships/hyperlink" Target="file:///3-2%20&#21160;&#37327;&#23432;&#24658;&#23450;&#24459;.ppt" TargetMode="External"/><Relationship Id="rId3" Type="http://schemas.openxmlformats.org/officeDocument/2006/relationships/hyperlink" Target="file:///3-4%20&#21160;&#33021;&#23450;&#29702;.ppt" TargetMode="Externa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3-7%20&#23436;&#20840;&#24377;&#24615;&#30896;&#25758;%20&#23436;&#20840;&#38750;&#24377;&#24615;&#30896;&#25758;.ppt" TargetMode="External"/><Relationship Id="rId2" Type="http://schemas.openxmlformats.org/officeDocument/2006/relationships/hyperlink" Target="file:///3-8%20&#33021;&#37327;&#23432;&#24658;&#23450;&#24459;.ppt" TargetMode="External"/><Relationship Id="rId3" Type="http://schemas.openxmlformats.org/officeDocument/2006/relationships/hyperlink" Target="file:///3-9%20&#36136;&#24515;%20&#36136;&#24515;&#36816;&#21160;&#23450;&#24459;.ppt" TargetMode="External"/><Relationship Id="rId4" Type="http://schemas.openxmlformats.org/officeDocument/2006/relationships/image" Target="../media/image6.wmf"/><Relationship Id="rId5" Type="http://schemas.openxmlformats.org/officeDocument/2006/relationships/hyperlink" Target="file:///3-6%20&#21151;&#33021;&#21407;&#29702;%20&#26426;&#26800;&#33021;&#23432;&#24658;&#23450;&#24459;.ppt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77080" y="101520"/>
            <a:ext cx="16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本章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720" y="692280"/>
            <a:ext cx="194292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1476360" y="16416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质点和质点系的动量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1476360" y="21463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动量守恒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/>
          </p:cNvPr>
          <p:cNvSpPr/>
          <p:nvPr/>
        </p:nvSpPr>
        <p:spPr>
          <a:xfrm>
            <a:off x="1476360" y="3213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动能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56000" y="4365720"/>
            <a:ext cx="3959280" cy="180648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1476360" y="11383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3440" y="2682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66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系统内质量移动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7418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保守力与非保守力  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8892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1403280" y="1763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完全弹性碰撞  完全非弹性碰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/>
          </p:cNvPr>
          <p:cNvSpPr/>
          <p:nvPr/>
        </p:nvSpPr>
        <p:spPr>
          <a:xfrm>
            <a:off x="1403280" y="2376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能量守恒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/>
          </p:cNvPr>
          <p:cNvSpPr/>
          <p:nvPr/>
        </p:nvSpPr>
        <p:spPr>
          <a:xfrm>
            <a:off x="1403280" y="2987640"/>
            <a:ext cx="52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质心  质心运动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101520"/>
            <a:ext cx="16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本章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620640"/>
            <a:ext cx="194472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443640" y="3068640"/>
            <a:ext cx="1844640" cy="28893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5"/>
          </p:cNvPr>
          <p:cNvSpPr/>
          <p:nvPr/>
        </p:nvSpPr>
        <p:spPr>
          <a:xfrm>
            <a:off x="1403280" y="1197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　功能原理  机械能守恒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6200" y="35719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66"/>
                </a:solidFill>
                <a:latin typeface="Times New Roman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对称性与守恒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8160" y="8892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64000" y="10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  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基本教学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620640"/>
            <a:ext cx="3527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514520"/>
            <a:ext cx="79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理解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动量、冲量概念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掌握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动量定理和动量守恒定律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09708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掌握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功的概念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能计算变力的功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理解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保守力作功的特点及势能的概念，会计算万有引力、重力和弹性力的势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2560" y="1268280"/>
            <a:ext cx="7850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掌握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动能定理、功能原理和机械能守恒定律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掌握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运用动量和能量守恒定律分析力学问题的思想和方法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720" y="3284640"/>
            <a:ext cx="7921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了解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完全弹性碰撞和完全非弹性碰撞的特点，并能处理较简单的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完全弹性碰撞和完全非弹性碰撞的问题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10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  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基本教学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602560" y="5978520"/>
            <a:ext cx="32724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END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1:22:34Z</dcterms:created>
  <dc:creator>张薇</dc:creator>
  <dc:description/>
  <dc:language>en-US</dc:language>
  <cp:lastModifiedBy>zhangwei</cp:lastModifiedBy>
  <dcterms:modified xsi:type="dcterms:W3CDTF">2006-07-12T15:39:56Z</dcterms:modified>
  <cp:revision>44</cp:revision>
  <dc:subject/>
  <dc:title>3-0 教学基本要求</dc:title>
</cp:coreProperties>
</file>